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1A1-6266-420C-96C1-0F79C49E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E31-D157-4422-81CC-D4BD5BD1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4EA-5C17-4E22-AD53-294473A8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8FC-0C19-49DB-BC71-34A473EA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D994-7FAE-4425-A464-53A3C681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0D48-CC73-4ED3-A10D-45C4C7C3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EEEA-C4DD-48C6-B7AF-57900DC7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11A0-06EB-4AAD-9AE3-0312E714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1EA5-FE22-4220-A7CA-A92ED702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538E-B7FF-4265-BEB2-60C25260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FB4A-DA62-49CA-8A22-C4531721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48C2-F5FC-4D52-954B-7ADC871B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B0C2-3EF5-4F71-8AB2-F0F274C9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AB66-DB1E-4EBE-8454-DE52C43E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5506-DC95-4B9E-A63A-9C26CC8B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EAC9-850B-4A32-A363-56D12746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42A0-3EC3-4C06-9BA1-7D1B58BB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CEF-3D2C-40D1-9269-3A6B32C5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56B-D95E-4137-85B9-F48056C7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CA9-A5BA-4E5E-A564-5275BB66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EB7-B199-449C-B8F6-62750A72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E86-E135-453F-93BC-3B0D2A04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C77-088D-4814-8EA9-A75B8041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F3E-443A-4E0D-BC3B-3A27C715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0D12-1479-4A31-A554-C3A3F18B478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575E-6609-4701-955D-98AAD87E832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ru.wikipedia.org/wiki/&#1060;&#1072;&#1081;&#1083;:Egypt.Giza.Menkaure.01.jpg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40;&#1088;&#1093;&#1080;&#1090;&#1077;&#1082;&#1090;&#1091;&#1088;&#1072;" TargetMode="External"/><Relationship Id="rId3" Type="http://schemas.openxmlformats.org/officeDocument/2006/relationships/hyperlink" Target="http://ru.wikipedia.org/wiki/&#1044;&#1088;&#1077;&#1074;&#1085;&#1080;&#1081;_&#1045;&#1075;&#1080;&#1087;&#1077;&#1090;" TargetMode="External"/><Relationship Id="rId4" Type="http://schemas.openxmlformats.org/officeDocument/2006/relationships/hyperlink" Target="http://ru.wikipedia.org/wiki/&#1057;&#1077;&#1084;&#1100;_&#1095;&#1091;&#1076;&#1077;&#1089;_&#1089;&#1074;&#1077;&#1090;&#1072;" TargetMode="External"/><Relationship Id="rId5" Type="http://schemas.openxmlformats.org/officeDocument/2006/relationships/hyperlink" Target="http://ru.wikipedia.org/wiki/&#1055;&#1080;&#1088;&#1072;&#1084;&#1080;&#1076;&#1072;_&#1061;&#1077;&#1086;&#1087;&#1089;&#1072;" TargetMode="External"/><Relationship Id="rId6" Type="http://schemas.openxmlformats.org/officeDocument/2006/relationships/hyperlink" Target="http://ru.wikipedia.org/wiki/&#1060;&#1072;&#1088;&#1072;&#1086;&#1085;_(&#1090;&#1080;&#1090;&#1091;&#1083;)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upload.wikimedia.org/wikipedia/commons/4/46/Egypt.Saqqara.DjosersPyramid.01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u.wikipedia.org/wiki/&#1060;&#1072;&#1081;&#1083;:Kheops-Pyramid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1/Kheops-coupe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&#1060;&#1072;&#1081;&#1083;:Concavit&#233;-kheops-photo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ru.wikipedia.org/wiki/&#1060;&#1072;&#1081;&#1083;:PyramidDatePalms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ru.wikipedia.org/wiki/&#1060;&#1072;&#1081;&#1083;:&#1041;&#1086;&#1083;&#1100;&#1096;&#1072;&#1103;_&#1082;&#1086;&#1096;&#1082;&#1072;_&#1080;&#1079;_&#1043;&#1080;&#1079;&#1099;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Egypt.Giza.Sphinx.02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tstour.ru/egypt/egyptg3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93560" y="1200240"/>
            <a:ext cx="8242560" cy="2401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57200" y="5715000"/>
            <a:ext cx="64008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или: ученики 11 класс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28240" cy="1432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85840" y="1285920"/>
            <a:ext cx="5214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Times New Roman"/>
              </a:rPr>
              <a:t>    </a:t>
            </a:r>
            <a:r>
              <a:rPr b="1" lang="ru-RU" sz="2600" spc="-1" strike="noStrike">
                <a:solidFill>
                  <a:srgbClr val="0d0d0d"/>
                </a:solidFill>
                <a:latin typeface="Times New Roman"/>
              </a:rPr>
              <a:t>Пирамида Хефрена </a:t>
            </a:r>
            <a:r>
              <a:rPr b="0" lang="ru-RU" sz="2600" spc="-1" strike="noStrike">
                <a:solidFill>
                  <a:srgbClr val="0d0d0d"/>
                </a:solidFill>
                <a:latin typeface="Times New Roman"/>
              </a:rPr>
              <a:t> — вторая по величине древнеегипетская пирамида. Построена в сер. XXVI в. до н. э. (215,3 × 215,3 м и высота 143,5 м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http://upload.wikimedia.org/wikipedia/commons/thumb/c/c1/Egypt.Giza.Menkaure.01.jpg/250px-Egypt.Giza.Menkaure.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5880" y="3500280"/>
            <a:ext cx="2857320" cy="317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://upload.wikimedia.org/wikipedia/commons/thumb/b/bf/Khephren-description-egypte.jpg/300px-Khephren-description-egypte.jpg"/>
          <p:cNvPicPr/>
          <p:nvPr/>
        </p:nvPicPr>
        <p:blipFill>
          <a:blip r:embed="rId4"/>
          <a:stretch/>
        </p:blipFill>
        <p:spPr>
          <a:xfrm>
            <a:off x="5643720" y="128592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5"/>
          <p:cNvSpPr/>
          <p:nvPr/>
        </p:nvSpPr>
        <p:spPr>
          <a:xfrm>
            <a:off x="4071960" y="3714840"/>
            <a:ext cx="4786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Пирамида Микерина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 — самая южная, поздняя и низкая из трёх египетских пирамид в Гизе. Вопреки прозвищу «Херу» (высокая), она едва достигает 66 м в высоту, а длина стороны её основания составляет 108,4 м. Её объём в 260 000 м³ составляет только десятую часть объема пирамиды Хефрена это был конец эпохи больших пирами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57120" y="1428480"/>
            <a:ext cx="85010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ирамида Хеопса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V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настия) : 230 м (146,6 м) 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ирамида Хефрена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V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настия) : 215 м (143 м) 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ирамида Джосера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II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настия) : 121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x 109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 (62 м) 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214200" y="492912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зовая пирамида, Снофру (IV династия) : 219 м (105 м)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3357720" y="3643200"/>
            <a:ext cx="25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оманая пирамида, Снофру  (IV династия) : 189 м (105 м)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6215040" y="485784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рамида в Мейдуме, Снофру (IV династия) : 144 м (94 м)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2" descr="Розовая пирамида в Дахшуре"/>
          <p:cNvPicPr/>
          <p:nvPr/>
        </p:nvPicPr>
        <p:blipFill>
          <a:blip r:embed="rId2"/>
          <a:stretch/>
        </p:blipFill>
        <p:spPr>
          <a:xfrm>
            <a:off x="214200" y="25718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Ломаная пирамида в Дахшуре"/>
          <p:cNvPicPr/>
          <p:nvPr/>
        </p:nvPicPr>
        <p:blipFill>
          <a:blip r:embed="rId3"/>
          <a:stretch/>
        </p:blipFill>
        <p:spPr>
          <a:xfrm>
            <a:off x="6286680" y="25718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Мейдумская пирамида"/>
          <p:cNvPicPr/>
          <p:nvPr/>
        </p:nvPicPr>
        <p:blipFill>
          <a:blip r:embed="rId4"/>
          <a:stretch/>
        </p:blipFill>
        <p:spPr>
          <a:xfrm>
            <a:off x="3286080" y="4572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я над этой темой мы узнали много нового об истории возникновения пирамид. Выяснили для кого были построены первые пирамиды. Установили места расположения древних гробниц. Определили какие пирамиды называют  великими и узнали какая пирамида является самой высокой. А ещё мы выяснили, кто такой Сфинкс и для чего его построили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28400" y="1285920"/>
            <a:ext cx="825804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Величайшие </a:t>
            </a:r>
            <a:r>
              <a:rPr b="0" lang="ru-RU" sz="26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архитектурные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 памятники </a:t>
            </a:r>
            <a:r>
              <a:rPr b="0" lang="ru-RU" sz="26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Древнего Египта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, среди которых одно из </a:t>
            </a:r>
            <a:r>
              <a:rPr b="0" lang="ru-RU" sz="26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«семи чудес света»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 — </a:t>
            </a:r>
            <a:r>
              <a:rPr b="0" lang="ru-RU" sz="26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пирамида Хеопса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. Пирамиды представляют собой огромные каменные сооружения пирамидальной формы, использовавшиеся в качестве гробниц для </a:t>
            </a:r>
            <a:r>
              <a:rPr b="0" lang="ru-RU" sz="2600" spc="-1" strike="noStrike" u="sng">
                <a:solidFill>
                  <a:srgbClr val="410082"/>
                </a:solidFill>
                <a:uFillTx/>
                <a:latin typeface="Times New Roman"/>
                <a:hlinkClick r:id="rId6"/>
              </a:rPr>
              <a:t>фараонов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Древнего Египта. Слово «пирамида» — греческое. По мнению одних исследователей, большая куча пшеницы и стала прообразом пирамиды. По мнению других учёных, это слово произошло от названия поминального пирога пирамидальной формы. Всего в Египте было обнаружено 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</a:rPr>
              <a:t>118 пирамид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17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14200" y="1357200"/>
            <a:ext cx="45720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первая пирамида ступенчатого типа. Постройка датируется приблизительн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67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дом до нашей эры. Пирамида Джосера расположена в Саккаре, к северо-востоку от древнего Мемфиса, в 15 км от Гизы. Её высота составля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2 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Файл:Egypt.Saqqara.DjosersPyramid.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4920" y="1357200"/>
            <a:ext cx="4298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57120" y="1285560"/>
            <a:ext cx="842976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Великими пирамидами называют расположенные в Гизе пирамиды фараоно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еопс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ефрен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икерин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. Эти пирамиды имеют не ступенчатую, а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строго геометрическую, пирамидальную форму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. Эти пирамиды относятся к периоду IV династии. Стены пирамид поднимаются под углом от 51° (пирамида Менкаура) до 53° (пирамида Хефрена) к горизонту. Этот угол воплощает в пирамиде математическое значение числа «π». Грани точно ориентированы по сторонам све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17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13840" y="1213920"/>
            <a:ext cx="428652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d0d0d"/>
                </a:solidFill>
                <a:latin typeface="Times New Roman"/>
              </a:rPr>
              <a:t>Пирамида называется </a:t>
            </a:r>
            <a:r>
              <a:rPr b="0" i="1" lang="ru-RU" sz="2600" spc="-1" strike="noStrike">
                <a:solidFill>
                  <a:srgbClr val="0d0d0d"/>
                </a:solidFill>
                <a:latin typeface="Times New Roman"/>
              </a:rPr>
              <a:t>«Ахет - Хуфу» — «Возрождение Хуфу (Хеопса)».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d0d0d"/>
                </a:solidFill>
                <a:latin typeface="Times New Roman"/>
              </a:rPr>
              <a:t>Построена на массивном природном скальном возвышении. Является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d0d0d"/>
                </a:solidFill>
                <a:latin typeface="Times New Roman"/>
              </a:rPr>
              <a:t>самой высокой и самой объемной из всех египетских пирамид. Её высота к настоящее время достигает 138,8 м. Длина стороны пирамиды — 230 м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Пирамида Хеопс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1285920"/>
            <a:ext cx="46432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4"/>
          <p:cNvSpPr/>
          <p:nvPr/>
        </p:nvSpPr>
        <p:spPr>
          <a:xfrm>
            <a:off x="500040" y="42876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остройку пирамиды датируют XXVI веком до н. э. Предположительно, строительство длилось более 20 лет. Пирамида сложена из 2,3 миллионов каменных блоков. На строительстве пирамиды были заняты 100 000 раб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4" descr="Файл:Kheops-coup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4880" y="3071880"/>
            <a:ext cx="4714920" cy="3571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upload.wikimedia.org/wikipedia/commons/thumb/b/b8/Concavit%C3%A9-kheops-photo.jpg/180px-Concavit%C3%A9-kheops-phot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285840"/>
            <a:ext cx="2571840" cy="250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http://upload.wikimedia.org/wikipedia/commons/thumb/f/f4/PyramidDatePalms.jpg/220px-PyramidDatePalm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040" y="3571920"/>
            <a:ext cx="32907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000760" y="1357200"/>
            <a:ext cx="38289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оложен на западном берегу Нила в Гизе. Статуя Сфинкса повёрнута лицом к Нилу и восходящему солнцу. Сам древний хранитель пирамид - Большой Сфинкс  устремил свой взгляд на восто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http://upload.wikimedia.org/wikipedia/ru/thumb/7/71/%D0%91%D0%BE%D0%BB%D1%8C%D1%88%D0%B0%D1%8F_%D0%BA%D0%BE%D1%88%D0%BA%D0%B0_%D0%B8%D0%B7_%D0%93%D0%B8%D0%B7%D1%8B.jpg/380px-%D0%91%D0%BE%D0%BB%D1%8C%D1%88%D0%B0%D1%8F_%D0%BA%D0%BE%D1%88%D0%BA%D0%B0_%D0%B8%D0%B7_%D0%93%D0%B8%D0%B7%D1%8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1857240"/>
            <a:ext cx="50482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13840" y="214200"/>
            <a:ext cx="507204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инк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тдыхающий лев с головой человека (мамлюкские солдаты отстрелили ему нос), представляет собой самую большую монолитную скульптуру. Его длина - 73 метра, высота - 20 метров. Считается, что сфинкс был вырублен во время строительства пирамиды Хефрена, а его лицо носит черты этого фарао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http://upload.wikimedia.org/wikipedia/commons/thumb/6/6c/Egypt.Giza.Sphinx.02.jpg/310px-Egypt.Giza.Sphinx.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3680" y="1500120"/>
            <a:ext cx="38019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8760" y="357120"/>
            <a:ext cx="804384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чти все древневосточные цивилизации видели во льве символ солнечного божества. С древнейших времён фараона было принято изображать в виде льва, истребляющего своих врагов. В свете этих данных позволительно считать Сфинкса стражником вечного покоя погребённых вокруг него фарао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Картинка 1 из 658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3357720"/>
            <a:ext cx="521496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4:39:42Z</dcterms:created>
  <dc:creator>Admin</dc:creator>
  <dc:description/>
  <dc:language>en-US</dc:language>
  <cp:lastModifiedBy>Admin</cp:lastModifiedBy>
  <dcterms:modified xsi:type="dcterms:W3CDTF">2010-05-05T18:31:00Z</dcterms:modified>
  <cp:revision>21</cp:revision>
  <dc:subject/>
  <dc:title>Почему Сфинкс охраняет пирамиду хеопса</dc:title>
</cp:coreProperties>
</file>